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Microsoft Sans Serif"/>
              </a:rPr>
              <a:t>Click to move the slide</a:t>
            </a:r>
            <a:endParaRPr b="0" lang="en-US" sz="60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AF4-0177-416B-A7E4-61B26F06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Q4L14 question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from last les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gdom had been divided between David and Ishbosh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Ishbosheth is murdered and taken out of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f his own servants slew him, and brought his head to David v. 1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, instead of rewarding them, put them to death for what they had done v. 9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shbosheth out of the picture, there is now a good time for the kingdom to un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 Tyre.  This where the king of Tyre resided and ru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row shows the distance from Tyre to Jerusalem, where the materials for David’s house was 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ps shows the sweep from Gibeon to Gez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am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ders of all the tribes of Israel come and anoint David king over all Israel, v. 1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952880"/>
            <a:ext cx="6248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h-bosheth the king, and Abner the general, being dead, they had no hope of maintaining a separate kingdom, and therefore they thought it better to submit to David's authority. And they founded their resolution on three good argum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David was their own countryman; "We are thy bone and thy flesh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Even in Saul's time, David had been their general, and he had always led them to victory; "Thou wast he that leddest out and broughtest in Israel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God had appointed him to the kingdom, to govern and protect the people; "The Lord said to thee, Thou shalt feed my people and be a captain over Israel.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am 5:6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Jebusites relied upon the unusual natural advantages of their citadel, which stood upon Mount Zion, a mountain shut in by deep valleys on three different sides; so that in their haughty self-security they imagined that they did not even need to employ healthy and powerful warriors to resist the attack made by David, but that the blind and lame would su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o of Jerusalem was probably part of the fortification of the Jebusite city that David captured. It may have been either a solid tower full of earth or a bastion strengthening a weak point in the wall. It was already in existence when David's army captured the Jebusite city (2 Sam 5:9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Nelson's Illustrated Bible Dictionary, Copyright (c)1986, Thomas Nelson Publis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alogue of the worthies and great men of his king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181480"/>
            <a:ext cx="556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Chron 12: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he rest also of Israel were of one heart to make David king-i.e., entertained a unanimous desire for his elev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Acts 2 – the united spirit when people know Jesus as both Lord and “Anointed” (Chris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consults with his officers, and resolves to bring back the ark from the house of Abinadab, v. 1-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lace it on a new cart, and Uzza and Ahio drive the cart; the oxen stumbling, Uzza puts forth his hand to save the ark from falling, and he is struck down by the Lord, v. 5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is displeased, and orders the ark to be carried to the house of Obed-edom the Gittite, v. 11-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k abides there for three months, and the Lord blesses Obed-edom, v.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area of  Kiriath Jearim from the air and from the n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closer view from the e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this is where the ark had been for some time during the reign of Sa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David sends for it, but the manner or method of bringing it from here to Jerusalem was outside the authority of the law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arrow shows from the Nile to Lebo-har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led area is what is meant as the general path of the stretch of land to where the call for Israel was 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 the area where the ark had res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ron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am sends artificers and materials to David, to build him a house, v. 1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's wives and children, v. 3-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feats the Philistines in two battles: one in the valley of Rephaim, v. 8-1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other at Gibeon and Gezer, v. 13-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fame goes out into all the surrounding nations, v.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various ways in which God blessed Dav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3B8-FA23-4069-B32E-C609FEDD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AC3-D7C9-4F9D-9DDF-A4E20BC3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64D-7798-49EE-BBE3-4D2D1174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6A0-0A13-467A-A49E-AC03ED41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9E4F-E8A4-4519-9B83-0A421320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9BED-A577-4466-80DA-8E4A2A7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823C-F1B5-40B7-B725-D1CC12D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4BCA-0CBD-41E2-BFF0-C3025457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BD5-FD24-4C43-AE7F-B4650F9A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432C-33A9-4537-A77F-31257AEE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BD22-D204-417A-BC4D-36D01C9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779-B6DB-4A87-8673-9C50181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95ED-9C46-4D37-B442-24512B5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02C6-7F6E-4AB7-9569-8EF086A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27BB-12A0-4391-929C-5F96DA0A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CB88-266B-4B35-A903-EDF00363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A28F-9C7F-44C8-BFF9-28321FDC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BD2-6BA1-430B-A501-69E82CE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14A-FC82-4BFA-8181-52940D8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951-A65A-4007-A554-7BB3460C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0B6-28E6-4415-B071-CD6984CE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5EC-D2EC-4A2C-A186-16CF0B3C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7CC-F669-44C7-8C8B-8902C007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C55-DB31-4378-990C-FD80B52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95A-C732-46E5-AB8E-FC36DFE53E14}" type="slidenum">
              <a:rPr b="0" lang="en-US" sz="1400" spc="-1" strike="noStrike">
                <a:solidFill>
                  <a:srgbClr val="ccecff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Microsoft Sans Serif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E518-DC1D-4630-800C-38A258CFC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Microsoft Sans Serif"/>
              </a:rPr>
              <a:t>The United Kingdom</a:t>
            </a:r>
            <a:endParaRPr b="0" lang="en-US" sz="5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Quarter 4, Lesson 15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2 Sam.5:1-16; 1 Chron.11-14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Pages 53-56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5938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ram, king of Tyre sent messengers &amp; carp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137160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919080"/>
            <a:ext cx="9144000" cy="5938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vid’s army struck down the Philistine army from Gibeon to Ge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81280" y="4952880"/>
            <a:ext cx="53352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David Anointed King of Israel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At Hebron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A Great Day of Uniting -  2 Sam.5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y remembered God’s promise concerning David -  v.2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y anointed David King over Israel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He reigned 7 ½ years in Hebron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Microsoft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Microsoft Sans Serif"/>
              </a:rPr>
              <a:t>He reigned 33 years in Jerusalem</a:t>
            </a:r>
            <a:endParaRPr b="0" lang="en-US" sz="24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Concerning Jerusalem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David was successful against the inhabiting Jebusites – 5:6f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stronghold becomes the city of David – v.7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God was with him – v.1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Under David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Mighty warriors united – 1 Chron.11-12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re was singleness of mind – 12:38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re was joy in Israel – 12:4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But, celebration led to his first careless act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Microsoft Sans Serif"/>
              </a:rPr>
              <a:t>The manner of moving the ark</a:t>
            </a:r>
            <a:endParaRPr b="0" lang="en-US" sz="28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The Ark 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Brought from Kiriath-jearim – 13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Excellent Motivation: :For we did not seek Him in the days of Saul” – 13:3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Unauthorized method: “on a new cart”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divine death-blow to Uzzah – 13:9,10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e anger and confusion of David – 13:11-14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83240" y="-50760"/>
            <a:ext cx="51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iriath Jearim from north a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51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5360" y="33012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riath Jearim from e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the ark had res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808200"/>
            <a:ext cx="9144000" cy="593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62120" y="1828440"/>
            <a:ext cx="3962160" cy="4343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34340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srael assembled from Nile to Lebo-hamath – 1 Chron.13: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8552600">
            <a:off x="182160" y="2973600"/>
            <a:ext cx="6159240" cy="2455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819520"/>
            <a:ext cx="2210040" cy="13816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ark was at Kiriath-jea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505320" y="4114800"/>
            <a:ext cx="274320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crosoft Sans Serif"/>
              </a:rPr>
              <a:t>God’s Blessings</a:t>
            </a:r>
            <a:endParaRPr b="0" lang="en-US" sz="4400" spc="-1" strike="noStrike">
              <a:solidFill>
                <a:srgbClr val="ccec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Through King of Tyre, Hiram -14:1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family at Jerusalem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defeat of the Philistines – 14:8-16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Microsoft Sans Serif"/>
              </a:rPr>
              <a:t>In the fear and respect he gained among the nations – 14:17</a:t>
            </a:r>
            <a:endParaRPr b="0" lang="en-US" sz="3200" spc="-1" strike="noStrike">
              <a:solidFill>
                <a:srgbClr val="ccecff"/>
              </a:solidFill>
              <a:latin typeface="Microsoft Sans Serif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21:47:35Z</dcterms:created>
  <dc:creator>Terry W. Benton</dc:creator>
  <dc:description/>
  <dc:language>en-US</dc:language>
  <cp:lastModifiedBy>Terry W. Benton</cp:lastModifiedBy>
  <dcterms:modified xsi:type="dcterms:W3CDTF">2005-05-21T02:07:31Z</dcterms:modified>
  <cp:revision>5</cp:revision>
  <dc:subject/>
  <dc:title>The United Kingdom</dc:title>
</cp:coreProperties>
</file>